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188-F0A4-407A-88BB-815FBA3A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4E6-F454-42D9-ABB3-96402D94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812C8-1E89-4E1E-A92F-B5EF563E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1486D-AEA0-4844-A478-46E5B92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DD0476-E955-4DB3-A29A-E5E8539B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881D60-1187-448F-A44E-61A8889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67F50C-5C77-4686-BF0A-02212B7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BE436-462E-4BD3-81F0-AA8449A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D1144A-205F-4D3B-A092-C0EE6E7C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242DB-1145-4380-9237-1FCB871A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195F0-D4B5-4546-8DB1-6D6391F9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CBE-9BCA-44BC-9E6D-D4540710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A34-B3A1-4179-A2A8-C382F578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AB1A8-FA43-4E2D-B66F-7CD6F226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87FC8-6D6F-4E50-94CF-4FC842A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BA87-FA28-4B4C-8EBB-B3DEE35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D05C2-EB73-4FEC-8650-E975392A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1E557-DB27-408C-BDEC-54EB3A9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B76E6-CC17-4FB2-AF78-D504C4ED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03326-CB49-4348-B01B-FB356A2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4FF-407A-478C-A9B3-CEC42C75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707A1-0B44-4C53-B4B3-E8E6DFA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BF96F-8168-4231-A91E-3913583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3676-5C39-43ED-A230-C9400B1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ED3A-C65C-42CC-A000-4F7C1956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D027-7A51-4C63-BF4F-7ABA1EF2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15D4-DDEA-4889-A88E-1E15B23A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D43F-9BD4-48C5-8581-B93C495C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D3E8-9521-4D05-8559-F6FAC0F2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0AF5-0ED4-466A-9636-9B12F4B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F31B-FA7C-412B-9587-D8CB79E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4A9-09B2-4472-8BD6-E606CDB6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E114-5ED0-40B9-BC60-9B22635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CF8F-F794-4738-9867-145C6A5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4F40-6B20-4020-9500-C47DA80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48C6-6948-4C24-AD0A-A4C77545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B377-F3EF-446C-9914-6D60E2CC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6BA8-4BFF-4863-9804-92038717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3E91-6925-487D-BD21-E6A01EC4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2C81A-6240-4538-B192-D89FBDD5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1AE43-5C83-491A-A3D4-3B3EF6B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B0AAC-216B-4F16-9EE2-531DDAE8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0F7-A6BD-468D-85A8-7A0D31F1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074D9-4675-4449-8F1E-8C985E0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0388F-A98F-4FCF-9B30-4B2022C4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C678C-7A2A-4C3C-8C1E-30B717D2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CF8F9-1B7A-4BBD-97EB-EBD5005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DE211-D51B-46E1-90B0-F586727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02C57-0619-4B0E-9EF0-6276F3C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49772-28D6-4013-AD72-A81EFFF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D1450-30B6-4832-8E7E-DEC386A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CA778-C561-4551-A1D8-6B2D51C2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5A76-71EE-4C3A-AC5E-83478086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14D-E71E-43D6-8A96-C2CB88F2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E225-1AE1-4326-A867-CAF00E73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7D1A-C090-4BC5-BD24-5AA4E9C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1C94-01BD-422C-BBCA-E85DDEB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A9D3-EEC6-47A3-ABE8-0FAC7243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99E0-5A96-435C-90D7-F42AB60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F5ED-CEB0-4E9D-9768-FCD78F2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CAE4B-E284-4630-9B3A-D41EEB6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18B69-E6C2-40CB-AD80-A07B475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77D0-8264-437D-ACD0-2D381C8D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68BE-9A31-42BE-B74D-FC7BA7BD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13E-3093-4409-83AD-50BB736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CDCD-B01D-4651-9647-2272A556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2932-B57D-4D9C-95CC-7244A177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550BB-CD86-4458-AF7E-F061BBFE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96E1-9C77-4E60-A900-55AF4E8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74AF-CD31-41FC-9AF5-94B88B3C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0F65-2450-4E2A-B2CA-28BC73F4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A145-6842-453A-9026-D05E48F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CD1C-3A88-4D96-8102-E3F8B08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9726-6DE3-4F43-90BE-11C8776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12D1-3CEF-48A5-9912-6BB0924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89A-1719-477D-B182-2567F62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24E3F-5D5B-4D44-B6C5-E9158BE8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20ED-BC34-49C5-A960-13BD638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E100-7242-4418-BC5A-13E1F7C2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B8BA-2969-43BC-86D5-E287A185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CAEA-2625-4858-9B30-D6585AA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E4FD-83A1-4BD2-9D02-F80C69E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6CED-1CB1-4175-8588-9D60D90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569F3-62D2-4E5A-BA21-95E171BD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C948-1EAF-4E3A-BBE6-4481EF1D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C2185-C2AD-4127-A430-B6FE0C07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2AD-B1BA-49C8-930C-9A39358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E52C-A64D-4692-A0AE-EC8DEDE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7C7A8-BCDE-40BD-84AB-994F49F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A47E-2E09-4003-A1CD-027E9E52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EAF0-8284-4584-A0BE-210EC500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C64C-DD5A-4D57-BA01-47777C48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6A3DE-F4BB-4039-B7CF-34134AEF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45C3D-0862-43BD-B06C-A2C41D84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D1CE36-49CA-4F5B-9BE5-FD79A73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495A8-A474-4910-BB8F-39F16C3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CC0AB-9F48-4932-AE7C-6EA187F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3CB-8CA9-4285-A60D-9A9DD57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DB0BE-CD82-41FA-946F-13F0494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4D805-E54B-4B0A-B898-A7ADDD0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138BA-7051-4532-85C5-A2DD5E06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D87E3-168B-4D51-9D92-54BB3244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03B58-09A6-4FDE-9564-824B294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5415D-2F5F-46AA-A1C2-2F4A8D86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7EA8D-265D-43FE-8C50-F045A222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0ED92-C0A9-4703-B790-6DFAF8C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5C905-7E39-4366-881E-8053AA9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3BC41-EB96-4CEC-B1B7-1C501A5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68AC-239C-498D-BA96-6CBB0A306B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4558-0A7B-41D9-89D8-82D0FC79AA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A348-0A53-46B5-9FF0-A9A3111C989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1AB6-7757-4E9D-8865-E5A9EFCAE1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EADA-BC95-4866-9ECB-692A934B58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E49-A5F0-459D-9724-997F1E45D9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F51-FDC6-4E3B-9B1C-767C5C1FFA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7600-96EC-451D-888B-B81CA81ABA9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0AD-23BB-4DA0-BD62-F12C1AF0BB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954920" cy="194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tractor"/>
          <p:cNvPicPr/>
          <p:nvPr/>
        </p:nvPicPr>
        <p:blipFill>
          <a:blip r:embed="rId2"/>
          <a:stretch/>
        </p:blipFill>
        <p:spPr>
          <a:xfrm>
            <a:off x="4952880" y="335268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ranching4"/>
          <p:cNvPicPr/>
          <p:nvPr/>
        </p:nvPicPr>
        <p:blipFill>
          <a:blip r:embed="rId3"/>
          <a:stretch/>
        </p:blipFill>
        <p:spPr>
          <a:xfrm>
            <a:off x="685800" y="3352680"/>
            <a:ext cx="35719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farming is done to provide food for one’s family, then i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Subsistence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rm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farming is done to sell in large quantities, then it 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 Commercial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rm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78920" cy="1309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Mostly in the LDC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Family or Villag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Limited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Lots of manual labo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Picture 5" descr="013006_%20b783-760459"/>
          <p:cNvPicPr/>
          <p:nvPr/>
        </p:nvPicPr>
        <p:blipFill>
          <a:blip r:embed="rId2"/>
          <a:stretch/>
        </p:blipFill>
        <p:spPr>
          <a:xfrm>
            <a:off x="4191120" y="2209680"/>
            <a:ext cx="2433600" cy="266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page2_blog_entry204_7"/>
          <p:cNvPicPr/>
          <p:nvPr/>
        </p:nvPicPr>
        <p:blipFill>
          <a:blip r:embed="rId3"/>
          <a:stretch/>
        </p:blipFill>
        <p:spPr>
          <a:xfrm>
            <a:off x="5943600" y="4343400"/>
            <a:ext cx="2590920" cy="2009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jude's%20goat"/>
          <p:cNvPicPr/>
          <p:nvPr/>
        </p:nvPicPr>
        <p:blipFill>
          <a:blip r:embed="rId4"/>
          <a:stretch/>
        </p:blipFill>
        <p:spPr>
          <a:xfrm>
            <a:off x="6019920" y="8380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Mostly MDC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Corporate employe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Family Far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Modern technolog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machines, irrigation systems, chemical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5" descr="tbl_s18News%5CImage165%5C3581%5Clores_module_express_625"/>
          <p:cNvPicPr/>
          <p:nvPr/>
        </p:nvPicPr>
        <p:blipFill>
          <a:blip r:embed="rId2"/>
          <a:stretch/>
        </p:blipFill>
        <p:spPr>
          <a:xfrm>
            <a:off x="5257800" y="1295280"/>
            <a:ext cx="3351240" cy="2229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igginsubdrip"/>
          <p:cNvPicPr/>
          <p:nvPr/>
        </p:nvPicPr>
        <p:blipFill>
          <a:blip r:embed="rId3"/>
          <a:stretch/>
        </p:blipFill>
        <p:spPr>
          <a:xfrm>
            <a:off x="6324480" y="3200400"/>
            <a:ext cx="2449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853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Mostly LD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Owned by wealthy corpor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Imported work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Technologies vary (limited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Low pay, sometimes unsaf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5" descr="3374815"/>
          <p:cNvPicPr/>
          <p:nvPr/>
        </p:nvPicPr>
        <p:blipFill>
          <a:blip r:embed="rId2"/>
          <a:stretch/>
        </p:blipFill>
        <p:spPr>
          <a:xfrm>
            <a:off x="6172200" y="1295280"/>
            <a:ext cx="2241720" cy="25146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ctc_04_img1020"/>
          <p:cNvPicPr/>
          <p:nvPr/>
        </p:nvPicPr>
        <p:blipFill>
          <a:blip r:embed="rId3"/>
          <a:stretch/>
        </p:blipFill>
        <p:spPr>
          <a:xfrm>
            <a:off x="5638680" y="4191120"/>
            <a:ext cx="3029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4884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INTENSIVE or EXTENSIVE?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Compare the factors below for the same amount 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f land…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mount of LABOR involved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mount of CAPITAL required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mount produced=the YIELD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rge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abor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rge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Mone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ig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Yield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:  Rice, Corn, Grains, Dairy, Orchards, Beef/Chicken/Pork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wer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abor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wer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Mone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w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Yield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:  Fishing, Nomadic Herding, Shifting Agricult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3:25:03Z</dcterms:created>
  <dc:creator>hberndt</dc:creator>
  <dc:description/>
  <dc:language>en-US</dc:language>
  <cp:lastModifiedBy>hberndt</cp:lastModifiedBy>
  <dcterms:modified xsi:type="dcterms:W3CDTF">2010-04-28T12:31:19Z</dcterms:modified>
  <cp:revision>6</cp:revision>
  <dc:subject/>
  <dc:title>Types of Agriculture</dc:title>
</cp:coreProperties>
</file>